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7655-06C7-477A-B0C8-1CA5545EE0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711F-782F-4B38-9E1F-BFAA1399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558247-4649-4741-852B-7683A763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E7EF7E-4074-4AB2-9673-C0E3922D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3CBD3D-327C-4AC2-961E-56A1A87E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E4D479-3CF3-44EC-A09D-AEB7C841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3C9CFA-4185-4C7F-AF53-9C91452C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61832C-FB17-4FCE-9120-ABC3253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77B50D-AD4F-4A37-921F-C1F5D0C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73763-B150-4655-89FF-F902CBB0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8F04D5-0B06-424C-A184-1DF26D11B5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5F9FC-FB29-4216-8162-F3FE915E1A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546E-4981-4365-9E09-EA975104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CB300-31BE-4A2B-89B9-F3A1BB53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AE5AF-5F45-48FB-B177-7BDE9A82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997CE-12E5-4983-99D7-24B43FB2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5BA19-6873-4301-88D1-D04926BF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7BAC2-972B-4D63-842D-61D10877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AA46-8A5E-4A9E-B9C9-59285945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0081E-B3E5-491A-8273-492FB4E5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5D7BB-FB48-4D7C-A458-E6B61FE9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5E39D-3D35-4A8A-9EFA-A40F98C2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74E58-0530-41D0-BA83-EC7C67C0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E073-2765-4FE4-9778-345C5BCDB9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8C145-5572-413D-B0A3-5E862D2582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1A2F3D-2E7C-48EE-BF88-F2207AA8F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F33279-5DCF-44B3-B908-1A695D87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8E08F9-4F40-47B9-975D-6D75E091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53C0EE-1912-415D-A349-D2F7CB38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198375-7D01-420C-A0CD-AAF23D41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25D14F-A17C-4C02-87CA-5927C26A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087819-2BB9-4238-B26D-4B7FA699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4EACCF-880A-4601-A9D5-20B4DD7D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C2BE13-8934-4163-B59A-A724BCE1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3904B-5A3C-4CE3-BC92-0EDFDFF7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BFC314-09BF-4CAD-9E48-7C681520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CB1F0F-2999-4381-98F6-86909D6D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22E85-0498-4BD6-9143-AFB60DEF3C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A5395-942D-4005-8161-F9A431670A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CB8C2-B2F0-43A5-B8D2-EF5770F5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3A5DF-81A4-4AB5-A14B-88476D75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892B4-87CF-4B1A-BCD6-E2140F61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56E4D-AE85-465F-884D-C6E0E2EB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C0C2D-85D2-4865-A9FC-679AA4FA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356BD-1976-4A9B-B09B-82787948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0210D-0A66-4F6B-80E9-29AE3C22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FF6BC-E2D5-4C1B-8047-3F200AC5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DA1A3-3679-4EC2-932C-FDC4231D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44A42-2A60-4012-BD1C-FB6AD450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FBFD1-7685-4423-89D1-E61391CB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F4281-8C24-4C10-B853-F11AE10228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CEF32-6A7A-4AF0-BC47-CCB4BAFBA6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D58CA-DF53-4AF4-BE10-E1AF7F79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2C456-47A1-4A56-996E-EF8085CB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8DBC7-A317-459E-A4A7-4F03DD0C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B9AED-B8F4-4F65-94EF-5DB90E5C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9EDD3-4953-4549-A0AF-85A7C958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C3F28-C1DD-493F-9E66-4CA79B19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19036-B603-43A3-B929-24E4713D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5A67E-0FB8-4421-934A-4CD8F740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81796-A98A-4990-A11B-E0E73543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03253-6852-4AF2-B021-2EA2336C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C4034-1395-466F-820F-B852F894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0DCB5-6BAD-4814-B733-3AC872E8DB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CC49D-6C40-4543-9A8B-EBBAA0AC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6E2F0-C9D2-4018-9A8C-C9C68144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6F075-100B-43E2-9D01-F24571EF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91913-7D15-4542-A738-AF8513E0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69E82-5771-46F6-8A67-644E80FF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DA83E-3DC8-4308-8A06-62707875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628AE-3BF5-4888-BE1F-0D68B54A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D1594-F627-407E-879C-E3381515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7B870-E22E-4A84-AD67-DC42CFD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9FF04-60BA-4BCD-A668-2B48A07F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07060-126B-4F3C-AF4D-C7FF37CF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63989-93F5-4091-9066-445AB256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9244A-345A-489E-8907-C2D809C6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315E3-A468-49DE-B73A-480D215D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08468-7427-4D84-BBE5-76259D69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6CE15-F2CD-42D4-923B-13D55064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EB0F9-AD7C-4096-91C6-8AD9CBD8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A72CA-AAD2-4539-97B3-54B45789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75257-8542-4723-B732-2912DBDF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3A8E9-A7E8-435B-A8FF-2B49FC88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B162D-195C-4B7B-8566-470333E4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4E083-432C-4ED2-B21C-A91088B5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E5345-FB3A-469B-9538-A8E4CFF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B1E42-4077-40D0-BF1F-1410050A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9E3F1-503B-440B-819E-6CDB1C44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D209F-C724-46D3-9ECB-07504018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6E707-8BED-45A6-99F3-2C628413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57479-D4AA-45C2-AD5A-27596469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FCE17-8C93-463B-97C8-1EA7D3F3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0C612-5BEE-4C8D-8506-C4A86BAF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7FBC4-4FA5-4C25-A32F-9D76151E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1B345-E4B6-4F86-BCE2-AD228C80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CC8F5-BCB9-42CD-BD1A-C1211FD0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674B0-EE8E-4E8B-A0C0-D0BAAB1A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319FC-40EB-46F8-8DD7-9F3DDE6C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B43D4-CEA7-4027-96C7-4CE3D49A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0B83C-9E0A-4326-88B8-0946F2C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97769-7C88-481F-A984-FB564788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A9691-F36A-45A4-B76A-01869D3E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17529-6DBC-4F57-97F7-914B8E97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2B8D7-BDD4-4CDA-A91D-2D7C0F30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D8FA6-C14C-46A0-A230-E54436D9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5850A-48A1-4102-B899-2FBA0240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D5953-50A5-4B64-8537-11B6703E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1F127-6D43-4EF0-857F-6AE061C5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C5593-20F3-4604-8841-E47A0694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2042D-1BDF-42BD-A17F-3F2AFF63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07D2-1970-4A16-937F-AB83615E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A6B48-166A-4B2F-8324-CF2576CD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4145A-4388-4BF1-9B45-F1AF6612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A1908-269E-4E07-80DA-4085F0FA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6FC93-1D1C-4F35-BDD0-751937B0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A55DD-A162-43BC-BAE8-F7BE181D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1F794-DD67-4554-881C-594EE755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3FDAD-E5D9-4A33-A538-214B5D24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2F30A-952B-4216-97D4-938156C5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1E207-8856-4173-B3AF-3A5B40A9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73DE7-412A-4D3C-9B16-42EB2B21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13291-51D9-48C6-A112-A7E86C1F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FE3B0-23DF-4F60-92B9-B23ABD7E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581AD-DEEB-4BE1-89E0-8AC720BC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D7209-2FB7-4EC6-9B8B-3608C6F2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4E6ED-23F6-4843-B943-63550054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63981-CBCE-422B-93CE-961FD12F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08250-8A89-417D-BCF4-61DAF113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C4C91-E8F2-4485-8A6B-060B4E8F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CF996-ADB1-4274-BC20-9136DDB7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8AE10-1409-4B75-A2ED-9E9FFC90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178EA-6115-4A25-BAF7-C85FA567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3874C-6E99-429E-B888-B4DCB9FB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FC502-2941-447A-AF97-81A322FC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BCD22-47DA-45BC-93B0-1BE32BB0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0F90D-FAB5-473A-A143-043D13DA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557A0-D5F5-445D-88A9-9391D851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523FF-379D-4DC4-9C1B-E93632E0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D5912-1D9D-4064-8D43-5D559EC6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42EDA-1F8D-4798-9ACA-51470779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C30AC-EC39-453A-A01B-D005257E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D1102-A7EF-405A-A244-7379C586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6368A-654E-453C-A050-5EC948B8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33D20-2E76-4D07-B313-8E18959B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C6909-EA1D-45BA-B7E4-1819B804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1C859-2EE7-4C84-BA4D-F8B5BD76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4E16D-954B-4BCA-B479-A263BD27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BFA47-580D-4107-A7C0-3A4B6A16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09E066-DACC-48ED-9178-929FBADB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AC735-C9F2-452A-BC90-6870EA42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902FA-BC1F-4E82-B918-83385E2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C25DC8-B141-4000-B5D4-4EDCC973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80134-4DBF-46F4-8FC5-493C5ECA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8D75E-2272-4939-B3BE-485F5AEA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5351B-11EB-46D3-BEB7-1B6DE2E0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3BF19-3544-4A35-87A1-C3B95690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4E6C9-BD3D-40EA-AFDF-D411879A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C9F12-5158-4967-9EF4-0BAED28D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B9B84-2B12-454E-95A7-F2BCD50C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A13E1-7927-4A30-A83D-CB309F7B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EFFBA-7C84-42D0-AFF2-2441F140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7E409-0D08-4254-8B3D-594E1509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6F2CE-05FE-4616-A30E-C5A282BB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93E9D-474E-409A-8B1C-55B72DA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CBAF4-FFCB-4CB1-B17A-5C39DA88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22A9A8-88C4-45A4-857F-D7174C4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2B707-1F45-49F4-9EC4-6E4272B700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492A3-EB55-4161-BCEC-F286CFCD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D3BD8-55E3-4F7B-9EE2-442C5E84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FFC63-C404-4560-B783-5703F649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1B596-A127-4FAE-8407-D2C64E39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3624F-341A-4E6D-B7BB-5A55168A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56BBD-35EF-4E3F-8C30-06040E5C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DC866C-7533-426D-9B48-3E751CA2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9BA7DC-1C2A-49AE-ACB6-7611FB83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6DCABB-164F-4229-87C0-16D92483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9A5935-67AC-44BC-A730-6CCB7663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698A7E-8164-4079-9DAE-4EE4D0D3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068114-BCF7-4F55-B52C-A38ECEB3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92C604-ACE3-4976-BB80-F0EFA7F4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68C27-BCF2-48F7-AFDF-6046CF41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0912C3-1E3A-43C1-A020-9C12BCFB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B2F1B-2F6C-4978-AA34-8F3A248E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085DD1-409B-4443-8215-165868CD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8A82AF-CBFC-4DB6-A4F8-E1208C16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76FAC8-3B7E-489E-A8D9-3DCB1330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6E187-DB1B-44C1-8E2B-16C22DD7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8113C9-16A9-4BB9-A219-036B4179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636EDE-909E-4BE7-9FB2-9191D834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F9550-FB00-400D-964F-A711142F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BDBFE-92C0-4AB0-B422-D2B57AE3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01F189-CBD2-49E5-934C-76C5C04E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87C08-BB2D-408D-8AB5-24C9531B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0F42D8-6C4C-4E01-9148-6D25AE18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FDB04-D7F6-43B4-9C60-08F40D20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19802-4F73-4D68-AB71-A35B5C78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A6D2BA-52AE-4C6D-9A65-60C5F1DF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F0423B-192C-44FC-8153-3599E65C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62A83-DEE2-4FF8-B6BC-B32B927A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02ACE7-49A7-42C1-AA8D-666D49A3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44D17-AEA3-4F4B-A9C7-A192AFBC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EB0CC2-A89C-4C26-8FA9-6A09882E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0BCCE0-E620-4720-9C7D-6147F31E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D60C7-B80D-40E3-A558-E12D6D4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E5F5D-6799-408E-B2B3-3371FF39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A9376B-1F32-4C3C-9191-CAF781D5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F07EC-3DB3-49F6-9F56-088170A0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98DB2-68EF-44C9-A63D-4CDFEFD3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BA7DDF-2331-42EC-BAFB-19162214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640C7-07A0-4799-83D7-CC10BEEA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3320-EE6E-4809-9BFC-A19D9CA3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DBB6F-5EA0-4F59-8F06-2097B548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A4443-1E74-4C95-9ACE-595CEAE1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6EE73-9021-415B-AAEE-5770F371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3E3220-1006-4647-BA1B-539479FA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256F18-1545-4710-BE78-9105189F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0F376A-2640-484D-852E-EB084A78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7909EB-591D-4386-B559-0E7C53DDC7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6976-2CFF-4EE0-BBD0-A8BEB4120D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48D5-F295-4BE4-BA75-5755B7FF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4272-47E0-40F9-8161-B9F5441A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4145-6720-4FD2-8666-64013A0C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DA96-C593-499A-8D03-B15CC842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E1A4-DE78-4A96-A41E-06C51118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11C8-3C52-4CF8-B729-93F19336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5990-EBFA-44EA-BB95-8565EE89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949F-C7DB-410F-BA1D-E7C1B647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BBC4-13E6-48B1-880D-38AA0BCC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6CEB4-AA9B-41C3-8935-8E4D8542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7603-4E83-42B4-A2DB-4896AAC9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5C54-AF6B-4523-90F8-50D1A826EF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F61114-4D5A-458F-9048-942985D439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0159-D07F-4BCA-AE82-7CDD8B54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F07F5-4654-4470-8AB2-9672F8D4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15FC8-23C0-45FA-AB8B-AF2B4A57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D1080-234A-4613-BE04-ACC91235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4689C-445E-4292-B91A-79CD08FE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3BF43-F413-41ED-815E-E069B4ED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5499C-AB23-44C1-87F1-909817BE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6B300-B283-4793-859C-2A50E315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822A64-1EC3-45C3-8E5C-E0AC14F9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65E3A-A44C-48E0-977E-F71A7A8D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88D55E-24FF-46E6-8C9F-A8746DD6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009E-9843-493E-BAE2-8D0359BD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63AC4-19E0-4EAE-9F67-4A0037C379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C4EB65-CC27-4D53-90CA-D6D1A9EAA3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AE8DE4-7370-4988-9920-E5FCA1D7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9D2EE2-B709-4A07-9232-C0D57942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A93570-613C-4BC0-A9F8-85CCD123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442AB1-8B07-4CCB-ABB8-1C9BE843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E97D5D-2661-4FBF-AD0F-6643A580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B95C12-2160-4FC4-83AC-87CE47C6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80420E-DDD3-4997-97E9-AF78E137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518077-250C-44C4-B4D1-C4833195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8185-4BDB-48A6-95A6-56EFD6E8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82CCB8-BC33-4757-A025-EC8FFA4C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A597AB-277A-4A9C-A4C5-639B492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D5374D-9DBA-47BF-B546-2BF2BF291B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5E9F2-3C34-4107-BDC3-F87A5C62A5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51CF0-17E1-427E-9A59-AD4C8E82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5EE95-AA93-41FA-9F4A-0153816B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55B3-055F-48BC-9C8C-FB9E981D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3DB01-4772-4D5E-8618-32F26BD8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04008-FAE4-4F57-8AA9-B5EB9424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4CF63-5C43-4437-B70E-51B2EC34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23BE-B589-4DAE-9E09-057025D6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E81DF-93C4-4A30-BE1E-DA0C0679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A741D-702A-412C-A92F-B6AD45FE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54233-C0F0-41A1-ADD8-00C9699A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5971F-7FFE-4EE0-B62B-B490276A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CD70A-C5C6-48E7-A9D7-0F3F191F8C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AD706-825A-4970-88E8-83896F94C2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CBF80-C6C7-44FB-B73F-7CB2FBA8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E2B4D-FBCC-41BC-B1C6-3E6D847D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1D893-08BF-4DA5-A94B-F54404B2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03F166-A6B7-47B4-A888-16D808BF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AF219-8BD9-4CA9-BBDC-A2059B6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5B8A7-5083-40FF-9160-4A59F5D3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3913D-720B-4331-AE00-E50716CC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26F34-D877-4104-87FC-2B6CC9BA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34AAD-2239-45E1-A2C7-C1A5F343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D08E6-ADF6-48AD-ABED-AC3ED722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C117E-1AD4-4453-B5D0-903AFCA6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E4358-4FB4-414B-9EB5-373C60B381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D2A467-18D5-4E4B-8D76-D31F80C20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BD11A3-8654-465E-B4D1-3CD154E3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69B9B6-2E0B-4731-9CBA-938C48F4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68A4-6204-49B3-BF4B-5411644F320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B604-4A4D-4D61-B9CF-3FDBE4011B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5BDF-CFEB-4C94-BAF8-5F0031A081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6E68-BB8E-4EFF-8599-A96A82A59C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A292-5772-481B-B1DD-C793B727036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25AF-5D8E-4028-BF8B-7654BB6CF49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C3E5-F1E0-4D5E-8602-DC921ED2A7D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2ADC-ECEC-4793-B0EA-43028054B9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533B-225D-4A98-9A67-D259D63F66B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8A6D-534E-472B-89E6-DFBA57E1376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C79C-423B-4BA7-980F-546C85D72A4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7F1C-86E8-48F5-B4B4-0AC517B940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2831-2E04-4F3A-8DAA-5EA349D192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A2D8-F6D3-41D7-91C5-93F11B102C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8476-B117-4B17-A129-4FEB76EA345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3A1F-8A83-413F-8EB5-0E5B17808E0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A61D-0388-4237-BDBC-2CFCE0F04FB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2CA4-CC6D-4F10-A720-E9738C22C8C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AE2E-A1D3-4E4C-9DCF-C233F5EEAA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6CDB-990F-4A09-933C-2E91FDA22D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F391-3B55-4FD4-9F50-7439228D39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31DB-D295-451D-BE9E-001EA31545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5485-61BB-4DB8-93A0-6700AE25FC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5368-F738-4BEA-8B71-BE710A9D33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15424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速 度、时 间 和 路 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11040" y="1744560"/>
            <a:ext cx="74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位数乘两位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"/>
          <p:cNvSpPr/>
          <p:nvPr/>
        </p:nvSpPr>
        <p:spPr>
          <a:xfrm>
            <a:off x="357120" y="7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  <a:ea typeface="宋体"/>
              </a:rPr>
              <a:t>一、自主探究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2"/>
          <p:cNvSpPr/>
          <p:nvPr/>
        </p:nvSpPr>
        <p:spPr>
          <a:xfrm>
            <a:off x="2296800" y="221472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辆汽车每小时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3"/>
          <p:cNvSpPr/>
          <p:nvPr/>
        </p:nvSpPr>
        <p:spPr>
          <a:xfrm>
            <a:off x="571680" y="2854440"/>
            <a:ext cx="82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人骑自行车每分钟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行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图片 8" descr="24.jpg"/>
          <p:cNvPicPr/>
          <p:nvPr/>
        </p:nvPicPr>
        <p:blipFill>
          <a:blip r:embed="rId8"/>
          <a:stretch/>
        </p:blipFill>
        <p:spPr>
          <a:xfrm>
            <a:off x="928800" y="857160"/>
            <a:ext cx="5357880" cy="1241640"/>
          </a:xfrm>
          <a:prstGeom prst="rect">
            <a:avLst/>
          </a:prstGeom>
          <a:ln w="0">
            <a:noFill/>
          </a:ln>
        </p:spPr>
      </p:pic>
      <p:sp>
        <p:nvSpPr>
          <p:cNvPr id="1013" name="文本框 3"/>
          <p:cNvSpPr/>
          <p:nvPr/>
        </p:nvSpPr>
        <p:spPr>
          <a:xfrm>
            <a:off x="365040" y="3903840"/>
            <a:ext cx="83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两道题都是已知速度及时间，求行驶的路程。求汽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可行多少千米，也就是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多少。求这个人骑自行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可行多少米，也就是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是多少，都用乘法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38"/>
          <p:cNvGrpSpPr/>
          <p:nvPr/>
        </p:nvGrpSpPr>
        <p:grpSpPr>
          <a:xfrm>
            <a:off x="419040" y="3386160"/>
            <a:ext cx="2147760" cy="459720"/>
            <a:chOff x="419040" y="3386160"/>
            <a:chExt cx="2147760" cy="459720"/>
          </a:xfrm>
        </p:grpSpPr>
        <p:sp>
          <p:nvSpPr>
            <p:cNvPr id="1015" name="TextBox 3"/>
            <p:cNvSpPr/>
            <p:nvPr/>
          </p:nvSpPr>
          <p:spPr>
            <a:xfrm>
              <a:off x="523440" y="3386160"/>
              <a:ext cx="20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缺角矩形 40"/>
            <p:cNvSpPr/>
            <p:nvPr/>
          </p:nvSpPr>
          <p:spPr>
            <a:xfrm>
              <a:off x="419040" y="350676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9"/>
          <p:cNvSpPr/>
          <p:nvPr/>
        </p:nvSpPr>
        <p:spPr>
          <a:xfrm>
            <a:off x="3060720" y="612720"/>
            <a:ext cx="65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25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250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22"/>
          <p:cNvSpPr/>
          <p:nvPr/>
        </p:nvSpPr>
        <p:spPr>
          <a:xfrm>
            <a:off x="142920" y="2585880"/>
            <a:ext cx="9186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一共行了多长的路，叫做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路程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；每小时（或每分钟等）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的路程，叫做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速度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；行了几小时（或几分钟等），叫做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知：速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路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45"/>
          <p:cNvSpPr/>
          <p:nvPr/>
        </p:nvSpPr>
        <p:spPr>
          <a:xfrm>
            <a:off x="4027320" y="857160"/>
            <a:ext cx="53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45"/>
          <p:cNvSpPr/>
          <p:nvPr/>
        </p:nvSpPr>
        <p:spPr>
          <a:xfrm>
            <a:off x="4741920" y="857160"/>
            <a:ext cx="53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45"/>
          <p:cNvSpPr/>
          <p:nvPr/>
        </p:nvSpPr>
        <p:spPr>
          <a:xfrm>
            <a:off x="3274920" y="857160"/>
            <a:ext cx="53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2"/>
          <p:cNvSpPr/>
          <p:nvPr/>
        </p:nvSpPr>
        <p:spPr>
          <a:xfrm>
            <a:off x="2917800" y="1757520"/>
            <a:ext cx="100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4"/>
          <p:cNvSpPr/>
          <p:nvPr/>
        </p:nvSpPr>
        <p:spPr>
          <a:xfrm>
            <a:off x="3979800" y="1757520"/>
            <a:ext cx="37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d60093"/>
                </a:solidFill>
                <a:latin typeface="Arial"/>
                <a:ea typeface="宋体"/>
              </a:rPr>
              <a:t>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d60093"/>
                </a:solidFill>
                <a:latin typeface="Arial"/>
                <a:ea typeface="宋体"/>
              </a:rPr>
              <a:t>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4"/>
          <p:cNvSpPr/>
          <p:nvPr/>
        </p:nvSpPr>
        <p:spPr>
          <a:xfrm>
            <a:off x="4417920" y="1720800"/>
            <a:ext cx="94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b0f0"/>
                </a:solidFill>
                <a:latin typeface="Arial"/>
                <a:ea typeface="宋体"/>
              </a:rPr>
              <a:t>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b0f0"/>
                </a:solidFill>
                <a:latin typeface="Arial"/>
                <a:ea typeface="宋体"/>
              </a:rPr>
              <a:t>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组合 3"/>
          <p:cNvGrpSpPr/>
          <p:nvPr/>
        </p:nvGrpSpPr>
        <p:grpSpPr>
          <a:xfrm>
            <a:off x="365040" y="4089240"/>
            <a:ext cx="8312400" cy="1023480"/>
            <a:chOff x="365040" y="4089240"/>
            <a:chExt cx="8312400" cy="1023480"/>
          </a:xfrm>
        </p:grpSpPr>
        <p:grpSp>
          <p:nvGrpSpPr>
            <p:cNvPr id="1026" name="组合 41"/>
            <p:cNvGrpSpPr/>
            <p:nvPr/>
          </p:nvGrpSpPr>
          <p:grpSpPr>
            <a:xfrm>
              <a:off x="365040" y="4089240"/>
              <a:ext cx="2148120" cy="459720"/>
              <a:chOff x="365040" y="4089240"/>
              <a:chExt cx="2148120" cy="459720"/>
            </a:xfrm>
          </p:grpSpPr>
          <p:sp>
            <p:nvSpPr>
              <p:cNvPr id="1027" name="TextBox 3"/>
              <p:cNvSpPr/>
              <p:nvPr/>
            </p:nvSpPr>
            <p:spPr>
              <a:xfrm>
                <a:off x="469440" y="4089240"/>
                <a:ext cx="204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规范解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缺角矩形 43"/>
              <p:cNvSpPr/>
              <p:nvPr/>
            </p:nvSpPr>
            <p:spPr>
              <a:xfrm>
                <a:off x="365040" y="420984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文本框 2"/>
            <p:cNvSpPr/>
            <p:nvPr/>
          </p:nvSpPr>
          <p:spPr>
            <a:xfrm>
              <a:off x="467280" y="4653000"/>
              <a:ext cx="821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28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千米）     ②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=225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米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1" name="Rectangle 64"/>
          <p:cNvSpPr/>
          <p:nvPr/>
        </p:nvSpPr>
        <p:spPr>
          <a:xfrm>
            <a:off x="357120" y="222120"/>
            <a:ext cx="2668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428760" y="927000"/>
            <a:ext cx="83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解答，只说出下面各题已知的是什么，要求的是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1"/>
          <p:cNvSpPr/>
          <p:nvPr/>
        </p:nvSpPr>
        <p:spPr>
          <a:xfrm>
            <a:off x="684360" y="1536840"/>
            <a:ext cx="81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林每分钟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，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走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组合 15"/>
          <p:cNvGrpSpPr/>
          <p:nvPr/>
        </p:nvGrpSpPr>
        <p:grpSpPr>
          <a:xfrm>
            <a:off x="1928880" y="2212920"/>
            <a:ext cx="5962680" cy="1717560"/>
            <a:chOff x="1928880" y="2212920"/>
            <a:chExt cx="5962680" cy="1717560"/>
          </a:xfrm>
        </p:grpSpPr>
        <p:pic>
          <p:nvPicPr>
            <p:cNvPr id="1045" name="图片 14" descr="11.gif"/>
            <p:cNvPicPr/>
            <p:nvPr/>
          </p:nvPicPr>
          <p:blipFill>
            <a:blip r:embed="rId8"/>
            <a:stretch/>
          </p:blipFill>
          <p:spPr>
            <a:xfrm>
              <a:off x="1928880" y="2212920"/>
              <a:ext cx="92844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AutoShape 27"/>
            <p:cNvSpPr/>
            <p:nvPr/>
          </p:nvSpPr>
          <p:spPr>
            <a:xfrm>
              <a:off x="3286080" y="2641320"/>
              <a:ext cx="4605480" cy="552240"/>
            </a:xfrm>
            <a:prstGeom prst="wedgeRoundRectCallout">
              <a:avLst>
                <a:gd name="adj1" fmla="val -58620"/>
                <a:gd name="adj2" fmla="val -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已知速度和时间，求路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组合 16"/>
          <p:cNvGrpSpPr/>
          <p:nvPr/>
        </p:nvGrpSpPr>
        <p:grpSpPr>
          <a:xfrm>
            <a:off x="1403280" y="4435560"/>
            <a:ext cx="5699160" cy="1851120"/>
            <a:chOff x="1403280" y="4435560"/>
            <a:chExt cx="5699160" cy="1851120"/>
          </a:xfrm>
        </p:grpSpPr>
        <p:pic>
          <p:nvPicPr>
            <p:cNvPr id="1048" name="图片 13" descr="20087116614671_2.jpg"/>
            <p:cNvPicPr/>
            <p:nvPr/>
          </p:nvPicPr>
          <p:blipFill>
            <a:blip r:embed="rId9"/>
            <a:stretch/>
          </p:blipFill>
          <p:spPr>
            <a:xfrm>
              <a:off x="5821560" y="4435560"/>
              <a:ext cx="128088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9" name="AutoShape 27"/>
            <p:cNvSpPr/>
            <p:nvPr/>
          </p:nvSpPr>
          <p:spPr>
            <a:xfrm>
              <a:off x="1403280" y="4856040"/>
              <a:ext cx="4195800" cy="500040"/>
            </a:xfrm>
            <a:prstGeom prst="wedgeRoundRectCallout">
              <a:avLst>
                <a:gd name="adj1" fmla="val 58027"/>
                <a:gd name="adj2" fmla="val -422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方正楷体简体"/>
                  <a:ea typeface="方正楷体简体"/>
                </a:rPr>
                <a:t>已知速度和路程，求时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Rectangle 51"/>
          <p:cNvSpPr/>
          <p:nvPr/>
        </p:nvSpPr>
        <p:spPr>
          <a:xfrm>
            <a:off x="684360" y="407052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声音每秒传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，声音传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7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要用多长时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组合 2"/>
          <p:cNvGrpSpPr/>
          <p:nvPr/>
        </p:nvGrpSpPr>
        <p:grpSpPr>
          <a:xfrm>
            <a:off x="0" y="115920"/>
            <a:ext cx="3244680" cy="525600"/>
            <a:chOff x="0" y="115920"/>
            <a:chExt cx="3244680" cy="525600"/>
          </a:xfrm>
        </p:grpSpPr>
        <p:pic>
          <p:nvPicPr>
            <p:cNvPr id="105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159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3" name="组合 4"/>
            <p:cNvGrpSpPr/>
            <p:nvPr/>
          </p:nvGrpSpPr>
          <p:grpSpPr>
            <a:xfrm>
              <a:off x="0" y="210960"/>
              <a:ext cx="429840" cy="273600"/>
              <a:chOff x="0" y="210960"/>
              <a:chExt cx="429840" cy="273600"/>
            </a:xfrm>
          </p:grpSpPr>
          <p:sp>
            <p:nvSpPr>
              <p:cNvPr id="1054" name="椭圆 11"/>
              <p:cNvSpPr/>
              <p:nvPr/>
            </p:nvSpPr>
            <p:spPr>
              <a:xfrm rot="16200000">
                <a:off x="242640" y="3751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380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椭圆 29"/>
              <p:cNvSpPr/>
              <p:nvPr/>
            </p:nvSpPr>
            <p:spPr>
              <a:xfrm rot="16200000">
                <a:off x="242640" y="248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253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46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390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109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2" name="TextBox 1"/>
          <p:cNvSpPr/>
          <p:nvPr/>
        </p:nvSpPr>
        <p:spPr>
          <a:xfrm>
            <a:off x="369720" y="130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三、实践应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2"/>
          <p:cNvSpPr/>
          <p:nvPr/>
        </p:nvSpPr>
        <p:spPr>
          <a:xfrm>
            <a:off x="642960" y="942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王叔叔从县城出发去王庄乡送化肥。去的时候用了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小时，返回时用了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小时。从县城到王庄乡有多远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5" descr="26.jpg"/>
          <p:cNvPicPr/>
          <p:nvPr/>
        </p:nvPicPr>
        <p:blipFill>
          <a:blip r:embed="rId8"/>
          <a:stretch/>
        </p:blipFill>
        <p:spPr>
          <a:xfrm>
            <a:off x="1000080" y="2346480"/>
            <a:ext cx="71154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065" name="组合 8"/>
          <p:cNvGrpSpPr/>
          <p:nvPr/>
        </p:nvGrpSpPr>
        <p:grpSpPr>
          <a:xfrm>
            <a:off x="857160" y="2217600"/>
            <a:ext cx="3429000" cy="914400"/>
            <a:chOff x="857160" y="2217600"/>
            <a:chExt cx="3429000" cy="914400"/>
          </a:xfrm>
        </p:grpSpPr>
        <p:sp>
          <p:nvSpPr>
            <p:cNvPr id="1066" name="圆角矩形标注 7"/>
            <p:cNvSpPr/>
            <p:nvPr/>
          </p:nvSpPr>
          <p:spPr>
            <a:xfrm>
              <a:off x="857160" y="2217600"/>
              <a:ext cx="3429000" cy="500040"/>
            </a:xfrm>
            <a:prstGeom prst="wedgeRoundRectCallout">
              <a:avLst>
                <a:gd name="adj1" fmla="val -671"/>
                <a:gd name="adj2" fmla="val 10932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Box 6"/>
            <p:cNvSpPr/>
            <p:nvPr/>
          </p:nvSpPr>
          <p:spPr>
            <a:xfrm>
              <a:off x="857160" y="22176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去的速度是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40</a:t>
              </a: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千米</a:t>
              </a:r>
              <a:r>
                <a:rPr b="1" lang="en-US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/</a:t>
              </a: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时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组合 9"/>
          <p:cNvGrpSpPr/>
          <p:nvPr/>
        </p:nvGrpSpPr>
        <p:grpSpPr>
          <a:xfrm>
            <a:off x="5000760" y="2274840"/>
            <a:ext cx="2357280" cy="914400"/>
            <a:chOff x="5000760" y="2274840"/>
            <a:chExt cx="2357280" cy="914400"/>
          </a:xfrm>
        </p:grpSpPr>
        <p:sp>
          <p:nvSpPr>
            <p:cNvPr id="1069" name="圆角矩形标注 10"/>
            <p:cNvSpPr/>
            <p:nvPr/>
          </p:nvSpPr>
          <p:spPr>
            <a:xfrm>
              <a:off x="5000760" y="2274840"/>
              <a:ext cx="2357280" cy="500040"/>
            </a:xfrm>
            <a:prstGeom prst="wedgeRoundRectCallout">
              <a:avLst>
                <a:gd name="adj1" fmla="val -1087"/>
                <a:gd name="adj2" fmla="val 104870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Box 11"/>
            <p:cNvSpPr/>
            <p:nvPr/>
          </p:nvSpPr>
          <p:spPr>
            <a:xfrm>
              <a:off x="5000760" y="227484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返回时快多了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矩形 19"/>
          <p:cNvSpPr/>
          <p:nvPr/>
        </p:nvSpPr>
        <p:spPr>
          <a:xfrm>
            <a:off x="2055600" y="4071960"/>
            <a:ext cx="32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原路返回时平均每小时行多少千米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20"/>
          <p:cNvSpPr/>
          <p:nvPr/>
        </p:nvSpPr>
        <p:spPr>
          <a:xfrm>
            <a:off x="1797480" y="4714920"/>
            <a:ext cx="244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×40=120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千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Box 1"/>
          <p:cNvSpPr/>
          <p:nvPr/>
        </p:nvSpPr>
        <p:spPr>
          <a:xfrm>
            <a:off x="1571760" y="100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组合 2"/>
          <p:cNvGrpSpPr/>
          <p:nvPr/>
        </p:nvGrpSpPr>
        <p:grpSpPr>
          <a:xfrm>
            <a:off x="500040" y="714240"/>
            <a:ext cx="8072640" cy="1428840"/>
            <a:chOff x="500040" y="714240"/>
            <a:chExt cx="8072640" cy="1428840"/>
          </a:xfrm>
        </p:grpSpPr>
        <p:pic>
          <p:nvPicPr>
            <p:cNvPr id="1075" name="图片 3" descr="00.gif"/>
            <p:cNvPicPr/>
            <p:nvPr/>
          </p:nvPicPr>
          <p:blipFill>
            <a:blip r:embed="rId1"/>
            <a:stretch/>
          </p:blipFill>
          <p:spPr>
            <a:xfrm>
              <a:off x="7412760" y="928440"/>
              <a:ext cx="1159920" cy="12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6" name="组合 14"/>
            <p:cNvGrpSpPr/>
            <p:nvPr/>
          </p:nvGrpSpPr>
          <p:grpSpPr>
            <a:xfrm>
              <a:off x="500040" y="714240"/>
              <a:ext cx="6929640" cy="941400"/>
              <a:chOff x="500040" y="714240"/>
              <a:chExt cx="6929640" cy="941400"/>
            </a:xfrm>
          </p:grpSpPr>
          <p:sp>
            <p:nvSpPr>
              <p:cNvPr id="1077" name="TextBox 5"/>
              <p:cNvSpPr/>
              <p:nvPr/>
            </p:nvSpPr>
            <p:spPr>
              <a:xfrm>
                <a:off x="585720" y="740880"/>
                <a:ext cx="9144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怎样求</a:t>
                </a:r>
                <a:r>
                  <a:rPr b="1" lang="zh-CN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“</a:t>
                </a:r>
                <a:r>
                  <a:rPr b="1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原路返回时平均每小时行多少千米</a:t>
                </a:r>
                <a:r>
                  <a:rPr b="1" lang="zh-CN" sz="25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”</a:t>
                </a:r>
                <a:r>
                  <a:rPr b="1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？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圆角矩形标注 6"/>
              <p:cNvSpPr/>
              <p:nvPr/>
            </p:nvSpPr>
            <p:spPr>
              <a:xfrm>
                <a:off x="500040" y="714240"/>
                <a:ext cx="6929640" cy="527040"/>
              </a:xfrm>
              <a:prstGeom prst="wedgeRoundRectCallout">
                <a:avLst>
                  <a:gd name="adj1" fmla="val 48106"/>
                  <a:gd name="adj2" fmla="val 93717"/>
                  <a:gd name="adj3" fmla="val 16667"/>
                </a:avLst>
              </a:prstGeom>
              <a:noFill/>
              <a:ln w="25560">
                <a:solidFill>
                  <a:srgbClr val="395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9" name="TextBox 7"/>
          <p:cNvSpPr/>
          <p:nvPr/>
        </p:nvSpPr>
        <p:spPr>
          <a:xfrm>
            <a:off x="642960" y="1500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00000"/>
                </a:solidFill>
                <a:latin typeface="Arial"/>
                <a:ea typeface="宋体"/>
              </a:rPr>
              <a:t>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求原路返回时平均每小时行多少千米，也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是求返回时的速度，根据“路程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速度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来解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8"/>
          <p:cNvSpPr/>
          <p:nvPr/>
        </p:nvSpPr>
        <p:spPr>
          <a:xfrm>
            <a:off x="1928880" y="3086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c00000"/>
                </a:solidFill>
                <a:latin typeface="Arial"/>
                <a:ea typeface="宋体"/>
              </a:rPr>
              <a:t>   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20÷2=60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千米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时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组合 13"/>
          <p:cNvGrpSpPr/>
          <p:nvPr/>
        </p:nvGrpSpPr>
        <p:grpSpPr>
          <a:xfrm>
            <a:off x="473040" y="4022640"/>
            <a:ext cx="8099640" cy="1549440"/>
            <a:chOff x="473040" y="4022640"/>
            <a:chExt cx="8099640" cy="1549440"/>
          </a:xfrm>
        </p:grpSpPr>
        <p:pic>
          <p:nvPicPr>
            <p:cNvPr id="1082" name="图片 9" descr="0000.gif"/>
            <p:cNvPicPr/>
            <p:nvPr/>
          </p:nvPicPr>
          <p:blipFill>
            <a:blip r:embed="rId2"/>
            <a:stretch/>
          </p:blipFill>
          <p:spPr>
            <a:xfrm>
              <a:off x="473040" y="4071600"/>
              <a:ext cx="1056960" cy="150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12"/>
            <p:cNvGrpSpPr/>
            <p:nvPr/>
          </p:nvGrpSpPr>
          <p:grpSpPr>
            <a:xfrm>
              <a:off x="1499760" y="4022640"/>
              <a:ext cx="7072920" cy="952560"/>
              <a:chOff x="1499760" y="4022640"/>
              <a:chExt cx="7072920" cy="952560"/>
            </a:xfrm>
          </p:grpSpPr>
          <p:sp>
            <p:nvSpPr>
              <p:cNvPr id="1084" name="TextBox 10"/>
              <p:cNvSpPr/>
              <p:nvPr/>
            </p:nvSpPr>
            <p:spPr>
              <a:xfrm>
                <a:off x="1513800" y="4060440"/>
                <a:ext cx="9144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5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知道行驶的路程和速度，怎样计算行驶的时间呢？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圆角矩形标注 11"/>
              <p:cNvSpPr/>
              <p:nvPr/>
            </p:nvSpPr>
            <p:spPr>
              <a:xfrm>
                <a:off x="1499760" y="4022640"/>
                <a:ext cx="7072920" cy="527040"/>
              </a:xfrm>
              <a:prstGeom prst="wedgeRoundRectCallout">
                <a:avLst>
                  <a:gd name="adj1" fmla="val -49893"/>
                  <a:gd name="adj2" fmla="val 100064"/>
                  <a:gd name="adj3" fmla="val 16667"/>
                </a:avLst>
              </a:prstGeom>
              <a:noFill/>
              <a:ln w="25560">
                <a:solidFill>
                  <a:srgbClr val="395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矩形 14"/>
          <p:cNvSpPr/>
          <p:nvPr/>
        </p:nvSpPr>
        <p:spPr>
          <a:xfrm>
            <a:off x="2820960" y="5022720"/>
            <a:ext cx="1985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路程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速度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8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32"/>
          <p:cNvSpPr/>
          <p:nvPr/>
        </p:nvSpPr>
        <p:spPr>
          <a:xfrm>
            <a:off x="425520" y="847800"/>
            <a:ext cx="844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速度是指单位时间内所行驶的路程，其表示方法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所走的路程单位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间单位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速度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路程，在解决行程问题时，可以直接利用公式进行计算。根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速度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路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一数量关系式，可得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路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速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及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路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速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1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99"/>
          <p:cNvSpPr/>
          <p:nvPr/>
        </p:nvSpPr>
        <p:spPr>
          <a:xfrm>
            <a:off x="720720" y="878040"/>
            <a:ext cx="73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根据“速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路程”的关系。请把下表填写完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表格 1" descr=""/>
          <p:cNvPicPr/>
          <p:nvPr/>
        </p:nvPicPr>
        <p:blipFill>
          <a:blip r:embed="rId8"/>
          <a:stretch/>
        </p:blipFill>
        <p:spPr>
          <a:xfrm>
            <a:off x="879480" y="1454040"/>
            <a:ext cx="6915240" cy="2168640"/>
          </a:xfrm>
          <a:prstGeom prst="rect">
            <a:avLst/>
          </a:prstGeom>
          <a:ln w="0">
            <a:noFill/>
          </a:ln>
        </p:spPr>
      </p:pic>
      <p:sp>
        <p:nvSpPr>
          <p:cNvPr id="1114" name="文本框 3"/>
          <p:cNvSpPr/>
          <p:nvPr/>
        </p:nvSpPr>
        <p:spPr>
          <a:xfrm>
            <a:off x="2597040" y="160344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千米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4"/>
          <p:cNvSpPr/>
          <p:nvPr/>
        </p:nvSpPr>
        <p:spPr>
          <a:xfrm>
            <a:off x="3887640" y="304488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2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6"/>
          <p:cNvSpPr/>
          <p:nvPr/>
        </p:nvSpPr>
        <p:spPr>
          <a:xfrm>
            <a:off x="5241960" y="2341440"/>
            <a:ext cx="10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7"/>
          <p:cNvSpPr/>
          <p:nvPr/>
        </p:nvSpPr>
        <p:spPr>
          <a:xfrm>
            <a:off x="6345360" y="162396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千米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1:22Z</dcterms:created>
  <dc:creator/>
  <dc:description/>
  <dc:language>en-US</dc:language>
  <cp:lastModifiedBy>万润仪器贸易公司</cp:lastModifiedBy>
  <dcterms:modified xsi:type="dcterms:W3CDTF">2020-08-21T08:55:50Z</dcterms:modified>
  <cp:revision>9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